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1A1D8-25E0-4F99-9069-A34276E16500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EC47-E5F9-40F8-B8AC-AA1FA8A25B98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4387-93B6-43AB-AECB-AC439573FD9F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BC444-2FC2-4CAE-992D-6D14D5152D44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7265A-EA20-4687-9E82-FE6C7D2F4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CBDF5-40C0-4883-935D-0C57DEE0A253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B7C1A-C363-494B-B5D0-CD884C04D49D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EB060-0429-4A34-BB93-F097AFB3B9BD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5F99B-C149-41E0-8CC8-3F423665FE91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CD84-CF3E-4496-BC6F-CDD4A06031F1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F4ADC-8AF5-4E41-9D0D-280A484C57CC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46BE2-9150-46D1-A6C6-69903FA30E85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45BD3-79F3-47B1-8BA7-C09EB9CFE7DC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2866-E4DD-4DE9-ACFA-455AD5F76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B8A7-81CE-4228-A926-08F15E106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19BF-A9FE-4CD5-9958-BF5AE7C33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30B1-6173-49EC-A847-984D4D63E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C93A-736A-4D34-B9B5-C54B0DBA0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AC1F-9745-4B34-AB57-2717D5E53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BB03-4334-4D8A-B762-7ECBAF34C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54C2-FFCC-4D73-B328-42DC84DEA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A257-CC60-46A7-AB66-6FD021592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A7EC-B887-4FEC-A958-FF50A3C8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6CE2-B754-4CD4-ACA9-18CCE6D9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6176-9F17-47E7-BD0B-E420CC12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3850C-89AA-4560-A888-A9638C74F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2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Rectangle 2" descr=""/>
          <p:cNvPicPr/>
          <p:nvPr/>
        </p:nvPicPr>
        <p:blipFill>
          <a:blip r:embed="rId1"/>
          <a:stretch/>
        </p:blipFill>
        <p:spPr>
          <a:xfrm>
            <a:off x="450720" y="128520"/>
            <a:ext cx="8242560" cy="1401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Book Antiqua"/>
              </a:rPr>
              <a:t>Voimat esiintyvät pareittain voima ja vastavoima pareina.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Book Antiqua"/>
              </a:rPr>
              <a:t>Voima ja vastavoima ovat yhtäsuuret, mutta vastakkaissuuntaise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0" name=""/>
          <p:cNvSpPr/>
          <p:nvPr/>
        </p:nvSpPr>
        <p:spPr>
          <a:xfrm>
            <a:off x="4628880" y="3952800"/>
            <a:ext cx="458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äsi vetää kelkkaa tietyllä voimall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lkka vetää kättä samansuuruisella, mut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stakkaissuuntaisella voima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900000" y="4005360"/>
            <a:ext cx="285768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214280" y="1000080"/>
            <a:ext cx="2857680" cy="2019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1143000" y="3143160"/>
            <a:ext cx="2876400" cy="181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1143000" y="6000840"/>
          <a:ext cx="6095880" cy="27468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phy.cuhk.edu.h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5" name="Picture 4" descr="http://images.google.com/images/isr_c.gif"/>
          <p:cNvPicPr/>
          <p:nvPr/>
        </p:nvPicPr>
        <p:blipFill>
          <a:blip r:embed="rId3"/>
          <a:stretch/>
        </p:blipFill>
        <p:spPr>
          <a:xfrm>
            <a:off x="0" y="0"/>
            <a:ext cx="142920" cy="142920"/>
          </a:xfrm>
          <a:prstGeom prst="rect">
            <a:avLst/>
          </a:prstGeom>
          <a:ln w="0">
            <a:noFill/>
          </a:ln>
        </p:spPr>
      </p:pic>
      <p:sp>
        <p:nvSpPr>
          <p:cNvPr id="106" name="Tekstikehys 6"/>
          <p:cNvSpPr/>
          <p:nvPr/>
        </p:nvSpPr>
        <p:spPr>
          <a:xfrm>
            <a:off x="1153440" y="557208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uvien lähd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Rectangle 6" descr=""/>
          <p:cNvPicPr/>
          <p:nvPr/>
        </p:nvPicPr>
        <p:blipFill>
          <a:blip r:embed="rId1"/>
          <a:stretch/>
        </p:blipFill>
        <p:spPr>
          <a:xfrm>
            <a:off x="420840" y="-6480"/>
            <a:ext cx="8242200" cy="1158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rocket"/>
          <p:cNvPicPr/>
          <p:nvPr/>
        </p:nvPicPr>
        <p:blipFill>
          <a:blip r:embed="rId2"/>
          <a:stretch/>
        </p:blipFill>
        <p:spPr>
          <a:xfrm>
            <a:off x="4071960" y="785880"/>
            <a:ext cx="5072040" cy="18111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105960" y="3573360"/>
            <a:ext cx="290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Raketti työtää kaasuja u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763960" y="5661000"/>
            <a:ext cx="33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asut työntää raketin liikkee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9" descr="rocket"/>
          <p:cNvPicPr/>
          <p:nvPr/>
        </p:nvPicPr>
        <p:blipFill>
          <a:blip r:embed="rId3"/>
          <a:stretch/>
        </p:blipFill>
        <p:spPr>
          <a:xfrm>
            <a:off x="826920" y="3284640"/>
            <a:ext cx="3924360" cy="14018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348000" y="3645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9" descr="rocket"/>
          <p:cNvPicPr/>
          <p:nvPr/>
        </p:nvPicPr>
        <p:blipFill>
          <a:blip r:embed="rId4"/>
          <a:stretch/>
        </p:blipFill>
        <p:spPr>
          <a:xfrm>
            <a:off x="755640" y="5084640"/>
            <a:ext cx="3780000" cy="13496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68360" y="55897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9036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899 -0.02978 L -1.46684 -0.0404 E">
                                      <p:cBhvr>
                                        <p:cTn id="162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Voima on suure, joka kuvaa vuorovaikutuksen suuruutta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Voiman lyhenne on F ja yksikkö Newton, 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Voimaan liittyy aina suunta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Rectangle 2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Kokonaisvoiman laskemine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Rectangle 2" descr=""/>
          <p:cNvPicPr/>
          <p:nvPr/>
        </p:nvPicPr>
        <p:blipFill>
          <a:blip r:embed="rId1"/>
          <a:stretch/>
        </p:blipFill>
        <p:spPr>
          <a:xfrm>
            <a:off x="401760" y="2352600"/>
            <a:ext cx="840744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"/>
          <p:cNvPicPr/>
          <p:nvPr/>
        </p:nvPicPr>
        <p:blipFill>
          <a:blip r:embed="rId1"/>
          <a:srcRect l="0" t="29052" r="1952" b="18139"/>
          <a:stretch/>
        </p:blipFill>
        <p:spPr>
          <a:xfrm>
            <a:off x="3286080" y="2428920"/>
            <a:ext cx="1428840" cy="1428840"/>
          </a:xfrm>
          <a:prstGeom prst="rect">
            <a:avLst/>
          </a:prstGeom>
          <a:ln w="0">
            <a:noFill/>
          </a:ln>
        </p:spPr>
      </p:pic>
      <p:cxnSp>
        <p:nvCxnSpPr>
          <p:cNvPr id="56" name="Suora nuoliyhdysviiva 3"/>
          <p:cNvCxnSpPr/>
          <p:nvPr/>
        </p:nvCxnSpPr>
        <p:spPr>
          <a:xfrm flipV="1">
            <a:off x="3785040" y="1713960"/>
            <a:ext cx="2520" cy="643320"/>
          </a:xfrm>
          <a:prstGeom prst="straightConnector1">
            <a:avLst/>
          </a:prstGeom>
          <a:ln w="9360">
            <a:solidFill>
              <a:srgbClr val="4e7652"/>
            </a:solidFill>
            <a:miter/>
            <a:tailEnd len="med" type="arrow" w="med"/>
          </a:ln>
        </p:spPr>
      </p:cxnSp>
      <p:cxnSp>
        <p:nvCxnSpPr>
          <p:cNvPr id="57" name="Suora nuoliyhdysviiva 4"/>
          <p:cNvCxnSpPr/>
          <p:nvPr/>
        </p:nvCxnSpPr>
        <p:spPr>
          <a:xfrm flipH="1">
            <a:off x="3785760" y="3785760"/>
            <a:ext cx="8640" cy="786600"/>
          </a:xfrm>
          <a:prstGeom prst="straightConnector1">
            <a:avLst/>
          </a:prstGeom>
          <a:ln w="9360">
            <a:solidFill>
              <a:srgbClr val="4e7652"/>
            </a:solidFill>
            <a:miter/>
            <a:tailEnd len="med" type="arrow" w="med"/>
          </a:ln>
        </p:spPr>
      </p:cxnSp>
      <p:sp>
        <p:nvSpPr>
          <p:cNvPr id="58" name="Tekstikehys 7"/>
          <p:cNvSpPr/>
          <p:nvPr/>
        </p:nvSpPr>
        <p:spPr>
          <a:xfrm>
            <a:off x="4022280" y="1643040"/>
            <a:ext cx="37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tia  tukivoima vaikuttaa ylöspä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kstikehys 8"/>
          <p:cNvSpPr/>
          <p:nvPr/>
        </p:nvSpPr>
        <p:spPr>
          <a:xfrm>
            <a:off x="3953880" y="4214880"/>
            <a:ext cx="41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an vetovoima  voima vetää alaspä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kstikehys 9"/>
          <p:cNvSpPr/>
          <p:nvPr/>
        </p:nvSpPr>
        <p:spPr>
          <a:xfrm>
            <a:off x="2302560" y="5072040"/>
            <a:ext cx="38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imat tasapainossa, joten ei liikett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Book Antiqua"/>
              </a:rPr>
              <a:t>Voimat ovat yhtäsuuret, mutta vastakkaissuuntaiset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63" name="Group 4"/>
          <p:cNvGrpSpPr/>
          <p:nvPr/>
        </p:nvGrpSpPr>
        <p:grpSpPr>
          <a:xfrm>
            <a:off x="1476360" y="2852640"/>
            <a:ext cx="4751280" cy="841320"/>
            <a:chOff x="1476360" y="2852640"/>
            <a:chExt cx="4751280" cy="841320"/>
          </a:xfrm>
        </p:grpSpPr>
        <p:sp>
          <p:nvSpPr>
            <p:cNvPr id="64" name="Oval 5"/>
            <p:cNvSpPr/>
            <p:nvPr/>
          </p:nvSpPr>
          <p:spPr>
            <a:xfrm>
              <a:off x="3492360" y="2852640"/>
              <a:ext cx="914400" cy="84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6"/>
            <p:cNvSpPr/>
            <p:nvPr/>
          </p:nvSpPr>
          <p:spPr>
            <a:xfrm>
              <a:off x="4356000" y="3284640"/>
              <a:ext cx="187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7"/>
            <p:cNvSpPr/>
            <p:nvPr/>
          </p:nvSpPr>
          <p:spPr>
            <a:xfrm flipH="1">
              <a:off x="1476360" y="3284640"/>
              <a:ext cx="20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8"/>
            <p:cNvSpPr/>
            <p:nvPr/>
          </p:nvSpPr>
          <p:spPr>
            <a:xfrm>
              <a:off x="5005800" y="2852640"/>
              <a:ext cx="53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 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9"/>
            <p:cNvSpPr/>
            <p:nvPr/>
          </p:nvSpPr>
          <p:spPr>
            <a:xfrm>
              <a:off x="2249640" y="2943360"/>
              <a:ext cx="53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 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Rectangle 10"/>
          <p:cNvSpPr/>
          <p:nvPr/>
        </p:nvSpPr>
        <p:spPr>
          <a:xfrm>
            <a:off x="1258920" y="4005360"/>
            <a:ext cx="59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konaisvoima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pale pysyy paikallaan tai jatkaa tasaista liikettää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Otsikko 1" descr=""/>
          <p:cNvPicPr/>
          <p:nvPr/>
        </p:nvPicPr>
        <p:blipFill>
          <a:blip r:embed="rId1"/>
          <a:stretch/>
        </p:blipFill>
        <p:spPr>
          <a:xfrm>
            <a:off x="450720" y="208080"/>
            <a:ext cx="8418600" cy="2163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" descr=""/>
          <p:cNvPicPr/>
          <p:nvPr/>
        </p:nvPicPr>
        <p:blipFill>
          <a:blip r:embed="rId2"/>
          <a:stretch/>
        </p:blipFill>
        <p:spPr>
          <a:xfrm>
            <a:off x="762120" y="3054240"/>
            <a:ext cx="4309920" cy="3232440"/>
          </a:xfrm>
          <a:prstGeom prst="rect">
            <a:avLst/>
          </a:prstGeom>
          <a:ln w="0">
            <a:noFill/>
          </a:ln>
        </p:spPr>
      </p:pic>
      <p:sp>
        <p:nvSpPr>
          <p:cNvPr id="72" name="Suorakulmio 3"/>
          <p:cNvSpPr/>
          <p:nvPr/>
        </p:nvSpPr>
        <p:spPr>
          <a:xfrm>
            <a:off x="797400" y="5857920"/>
            <a:ext cx="26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Creative Commons Attribution 3.0 License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084 -0.02355 L 1.11823 -0.03394 E">
                                      <p:cBhvr>
                                        <p:cTn id="75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53964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2.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74" name="Ryhmä 15"/>
          <p:cNvGrpSpPr/>
          <p:nvPr/>
        </p:nvGrpSpPr>
        <p:grpSpPr>
          <a:xfrm>
            <a:off x="1402920" y="2276640"/>
            <a:ext cx="3818520" cy="914400"/>
            <a:chOff x="1402920" y="2276640"/>
            <a:chExt cx="3818520" cy="914400"/>
          </a:xfrm>
        </p:grpSpPr>
        <p:sp>
          <p:nvSpPr>
            <p:cNvPr id="75" name="Oval 5"/>
            <p:cNvSpPr/>
            <p:nvPr/>
          </p:nvSpPr>
          <p:spPr>
            <a:xfrm>
              <a:off x="3419640" y="2349360"/>
              <a:ext cx="914400" cy="841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6"/>
            <p:cNvSpPr/>
            <p:nvPr/>
          </p:nvSpPr>
          <p:spPr>
            <a:xfrm>
              <a:off x="4284720" y="278136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7"/>
            <p:cNvSpPr/>
            <p:nvPr/>
          </p:nvSpPr>
          <p:spPr>
            <a:xfrm flipH="1">
              <a:off x="1402920" y="2781360"/>
              <a:ext cx="201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8"/>
            <p:cNvSpPr/>
            <p:nvPr/>
          </p:nvSpPr>
          <p:spPr>
            <a:xfrm>
              <a:off x="4429440" y="2276640"/>
              <a:ext cx="53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 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9"/>
            <p:cNvSpPr/>
            <p:nvPr/>
          </p:nvSpPr>
          <p:spPr>
            <a:xfrm>
              <a:off x="2197080" y="2276640"/>
              <a:ext cx="53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 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Rectangle 11"/>
          <p:cNvSpPr/>
          <p:nvPr/>
        </p:nvSpPr>
        <p:spPr>
          <a:xfrm>
            <a:off x="1042920" y="3284640"/>
            <a:ext cx="655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yt voimien summa ei ole 0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ikuttamaan jää 3 N:n voima taaksepä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Ryhmä 16"/>
          <p:cNvGrpSpPr/>
          <p:nvPr/>
        </p:nvGrpSpPr>
        <p:grpSpPr>
          <a:xfrm>
            <a:off x="2268000" y="4365720"/>
            <a:ext cx="2281680" cy="912600"/>
            <a:chOff x="2268000" y="4365720"/>
            <a:chExt cx="2281680" cy="912600"/>
          </a:xfrm>
        </p:grpSpPr>
        <p:sp>
          <p:nvSpPr>
            <p:cNvPr id="82" name="Oval 13"/>
            <p:cNvSpPr/>
            <p:nvPr/>
          </p:nvSpPr>
          <p:spPr>
            <a:xfrm>
              <a:off x="3635280" y="4437000"/>
              <a:ext cx="914400" cy="84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4"/>
            <p:cNvSpPr/>
            <p:nvPr/>
          </p:nvSpPr>
          <p:spPr>
            <a:xfrm flipH="1">
              <a:off x="2268000" y="4869000"/>
              <a:ext cx="136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15"/>
            <p:cNvSpPr/>
            <p:nvPr/>
          </p:nvSpPr>
          <p:spPr>
            <a:xfrm>
              <a:off x="2917800" y="4365720"/>
              <a:ext cx="53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 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Rectangle 16"/>
          <p:cNvSpPr/>
          <p:nvPr/>
        </p:nvSpPr>
        <p:spPr>
          <a:xfrm>
            <a:off x="755640" y="5516640"/>
            <a:ext cx="743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ppale joutuu kiihtyvään liikkeeseen vasemmal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3.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87" name="Group 12"/>
          <p:cNvGrpSpPr/>
          <p:nvPr/>
        </p:nvGrpSpPr>
        <p:grpSpPr>
          <a:xfrm>
            <a:off x="1692360" y="2133720"/>
            <a:ext cx="2735280" cy="963360"/>
            <a:chOff x="1692360" y="2133720"/>
            <a:chExt cx="2735280" cy="963360"/>
          </a:xfrm>
        </p:grpSpPr>
        <p:sp>
          <p:nvSpPr>
            <p:cNvPr id="88" name="Oval 5"/>
            <p:cNvSpPr/>
            <p:nvPr/>
          </p:nvSpPr>
          <p:spPr>
            <a:xfrm>
              <a:off x="1692360" y="2133720"/>
              <a:ext cx="914400" cy="840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6"/>
            <p:cNvSpPr/>
            <p:nvPr/>
          </p:nvSpPr>
          <p:spPr>
            <a:xfrm>
              <a:off x="2556000" y="2565360"/>
              <a:ext cx="187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8"/>
            <p:cNvSpPr/>
            <p:nvPr/>
          </p:nvSpPr>
          <p:spPr>
            <a:xfrm>
              <a:off x="3205800" y="2133720"/>
              <a:ext cx="53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 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0"/>
            <p:cNvSpPr/>
            <p:nvPr/>
          </p:nvSpPr>
          <p:spPr>
            <a:xfrm>
              <a:off x="2484720" y="2781000"/>
              <a:ext cx="13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11"/>
            <p:cNvSpPr/>
            <p:nvPr/>
          </p:nvSpPr>
          <p:spPr>
            <a:xfrm>
              <a:off x="3042360" y="2728800"/>
              <a:ext cx="53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 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19"/>
          <p:cNvGrpSpPr/>
          <p:nvPr/>
        </p:nvGrpSpPr>
        <p:grpSpPr>
          <a:xfrm>
            <a:off x="1835280" y="3860640"/>
            <a:ext cx="3600360" cy="841320"/>
            <a:chOff x="1835280" y="3860640"/>
            <a:chExt cx="3600360" cy="841320"/>
          </a:xfrm>
        </p:grpSpPr>
        <p:sp>
          <p:nvSpPr>
            <p:cNvPr id="94" name="Oval 14"/>
            <p:cNvSpPr/>
            <p:nvPr/>
          </p:nvSpPr>
          <p:spPr>
            <a:xfrm>
              <a:off x="1835280" y="3860640"/>
              <a:ext cx="914400" cy="84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15"/>
            <p:cNvSpPr/>
            <p:nvPr/>
          </p:nvSpPr>
          <p:spPr>
            <a:xfrm>
              <a:off x="2698920" y="4292280"/>
              <a:ext cx="27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17"/>
            <p:cNvSpPr/>
            <p:nvPr/>
          </p:nvSpPr>
          <p:spPr>
            <a:xfrm>
              <a:off x="3348360" y="3860640"/>
              <a:ext cx="53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Rectangle 20"/>
          <p:cNvSpPr/>
          <p:nvPr/>
        </p:nvSpPr>
        <p:spPr>
          <a:xfrm>
            <a:off x="757080" y="5516640"/>
            <a:ext cx="770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konaisvoimien summa ei ole nol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ppale joutuu kiihtyvään liikkeeseen oikeall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2T18:14:21Z</dcterms:created>
  <dc:creator>Ritva Tamminen</dc:creator>
  <dc:description/>
  <dc:language>en-US</dc:language>
  <cp:lastModifiedBy>tammiri</cp:lastModifiedBy>
  <dcterms:modified xsi:type="dcterms:W3CDTF">2010-10-24T09:11:37Z</dcterms:modified>
  <cp:revision>14</cp:revision>
  <dc:subject/>
  <dc:title>Newtonin liikelait</dc:title>
</cp:coreProperties>
</file>